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CFFC-EFFC-4497-8C67-544C87A1C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1CB5-ED52-47B4-9AC8-3A96F0113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5952-AAF4-4760-91F4-BC96034D5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6821-A6C4-4E93-A1FD-058D0C738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72B2-6AFE-468A-9FF1-12846A247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D6FF-1076-4C93-89BC-38D34E1D8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43BA-BEA8-4F85-B2A5-6073EC1CEC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8620-176A-473F-B9C4-329E6D05AF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6647-7A7C-4374-AC2B-A892389B49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EA62-F503-402D-B9FE-D262939E2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163B-9370-4884-9C51-21A3BACAB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1D82-F22B-4C62-AF8E-4D77F0306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A092-C74B-4435-81A1-F7D29E6AA8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FC07-9175-4CAC-BA9E-6CF33EADBD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44FB-A448-44CF-B720-52C48BDBA1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0FE8-A460-462B-A612-CC64DCD819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7D0A-DF8B-4900-8B32-ED71BF53C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6C07-CF99-4129-BB6F-376105B52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33DE-3BA1-4D11-8204-4B0C191E7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624F-091F-4298-B610-37AA3E778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928A-8991-45E6-A23C-CBAE8DED2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7704-C6B0-474B-850F-5B6DE2A97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C733-CED5-4DF6-87B9-289450656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003D-944C-429A-93A2-C48A064DE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5C00-0695-4A1A-846D-C5B9AB037FB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899-23DD-4474-9C49-54D8C3BE20F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5A5-32AB-41AF-9820-59CD5DD458C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모델 좌표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를 설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정점을 정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좌표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눈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단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임의로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공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bject Space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부동소수 정밀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좌표계 원점 및 축방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설계상의 편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마다 서로 다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모델 좌표계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MCS, Modeling Coordinate System)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또는 지역 좌표계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LCS, Local Coordinat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995640" y="2421000"/>
            <a:ext cx="3949920" cy="146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232000" cy="13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A747-6DC9-4F8B-A3BC-CB50DAEF8E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좌표계 변환에 의한 모델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코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MatrixMode(GL_MODELVIEW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LoadIdentity( );     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Rotatef(45, 0.0, 0.0, 1.0);   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좌표계 변환과 동일 순서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Translatef(10.0, 0.0, 0.0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Vertex3f(Px, Py, Pz);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 좌표계를 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전의 모델 좌표계를 기준으로 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TM = I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TM = CTM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 = I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'' = CTM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= I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R</a:t>
            </a:r>
            <a:r>
              <a:rPr b="0" lang="ko-KR" sz="1800" spc="-1" strike="noStrike">
                <a:solidFill>
                  <a:srgbClr val="ff33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51280" y="3787920"/>
            <a:ext cx="4681440" cy="28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6928-CA4C-4DA8-8911-62B74E022E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함수호출 순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4608360" cy="194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4174920" cy="24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9310-C95D-4761-9C2D-98BC23EAD2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행렬 스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16360" cy="255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03280" y="2924280"/>
            <a:ext cx="7369200" cy="2620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566100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99"/>
                </a:solidFill>
                <a:latin typeface="Palatino Linotype"/>
                <a:ea typeface="소망M"/>
              </a:rPr>
              <a:t>좌표계를 </a:t>
            </a:r>
            <a:r>
              <a:rPr b="0" lang="ko-KR" sz="1600" spc="-1" strike="noStrike">
                <a:solidFill>
                  <a:srgbClr val="333399"/>
                </a:solidFill>
                <a:latin typeface="Palatino Linotype"/>
                <a:ea typeface="소망M"/>
              </a:rPr>
              <a:t>(d)</a:t>
            </a:r>
            <a:r>
              <a:rPr b="0" lang="ko-KR" sz="1600" spc="-1" strike="noStrike">
                <a:solidFill>
                  <a:srgbClr val="333399"/>
                </a:solidFill>
                <a:latin typeface="Palatino Linotype"/>
                <a:ea typeface="소망M"/>
              </a:rPr>
              <a:t>로 되돌리려면 어떻게 하는가 </a:t>
            </a:r>
            <a:r>
              <a:rPr b="0" lang="ko-KR" sz="1600" spc="-1" strike="noStrike">
                <a:solidFill>
                  <a:srgbClr val="333399"/>
                </a:solidFill>
                <a:latin typeface="Palatino Linotype"/>
                <a:ea typeface="소망M"/>
              </a:rPr>
              <a:t>-&gt; </a:t>
            </a:r>
            <a:r>
              <a:rPr b="0" lang="ko-KR" sz="1600" spc="-1" strike="noStrike">
                <a:solidFill>
                  <a:srgbClr val="ff3300"/>
                </a:solidFill>
                <a:latin typeface="Palatino Linotype"/>
                <a:ea typeface="소망M"/>
              </a:rPr>
              <a:t>스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6BC0-82F1-4266-A4B6-F8BE4B4A0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행렬 스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푸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176720" cy="19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B546-AACB-40F7-871E-E63AABA04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행렬 스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13440" cy="52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1354-0105-48DD-8984-DE1267140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행렬 스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반적 형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PushMatrix( 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Translatef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Rotatef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Scalef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raw_TransformedObject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PopMatrix( );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47640" y="4221000"/>
            <a:ext cx="5616720" cy="137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B9F5-C670-4912-BE22-899C687FE1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계층구조 모델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void drawArm( )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lMatrixMode(GL_MODELVIEW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lLoadIdentity( );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전역 좌표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모델 좌표계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raw_Body( );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몸체 그리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glPushMatrix( );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전역 좌표계 저장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oToShoulderCoordinates( );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어깨 기준 모델 좌표계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raw_UpperArm( );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위 팔 그리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glPushMatrix( );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어깨 기준 모델 좌표계 저장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oToElbowCoordinates( );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팔꿈치 기준 모델 좌표계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raw_LowerArm( );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아래팔 그리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glPushMatrix( );                 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팔꿈치 기준 모델 좌표계 저장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oToWristCoordinates( );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손목 기준 모델 좌표계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raw_Hand( );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손 그리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glPopMatrix( );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팔꿈치 좌표계 복원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glPopMatrix( );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어깨 좌표계 복원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3300"/>
                </a:solidFill>
                <a:latin typeface="Verdana"/>
              </a:rPr>
              <a:t>glPopMatrix( );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몸체 좌표계 복원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753080" cy="147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377E-8468-4166-A64B-159F76E62D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계층구조 모델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계층구조 트리 관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현 좌표계 저장을 위해서 푸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전 좌표계 복원을 위해서 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212580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564000" y="2997360"/>
            <a:ext cx="47880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70A6-AF0F-44D8-B499-402F704BEC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시점 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시점 좌표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6351840" cy="23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243E-912F-456E-9980-20DA8F037E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단순 시스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 위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 좌표계 원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 좌표계 원점을 향한 방향이 시점 좌표계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에 수직으로 서 있는 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투상면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Projection Plane, View Pla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면 내부에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뷰 윈도우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View Window)=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 필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 좌표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뷰 윈도우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과 평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-z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에 수직인 방향으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2124000" y="1197000"/>
            <a:ext cx="474192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7EAA-F9E3-409F-B676-B0F0687746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전역 좌표계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시점 좌표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여러 물체가 존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여러 지역 좌표계가 존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률적으로 어우를 수 있는 기준 좌표계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전역 좌표계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WCS, World Coordinat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임의 위치에 선정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바라보는 위치에 따라 장면은 달라보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시점 좌표계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VCS, View Coordinatge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987640" y="2781360"/>
            <a:ext cx="2955960" cy="14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0CE7-F7C5-484E-9034-D06FB8E85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Renderman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시스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카메라가 바라보는 점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zh-CN" sz="1800" spc="-1" strike="noStrike">
                <a:solidFill>
                  <a:srgbClr val="ff3300"/>
                </a:solidFill>
                <a:latin typeface="Verdana"/>
              </a:rPr>
              <a:t>초점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Focus, Targ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초점을 향한 방향이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나머지는 단순 시스템과 유사하다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축을 중심으로 카메라가 회전 가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Verdana"/>
              </a:rPr>
              <a:t>롤링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Roll, Roll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초점은 고정한 채 카메라가 시선 방향인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축을 기준으로 회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692360" y="1052640"/>
            <a:ext cx="5391000" cy="19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A4B7-9467-47EA-8097-6E38FDF24D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Renderman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시스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시점좌표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결과영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롤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7315200" cy="17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291F-0662-4BDF-930C-9473EE42F8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비행 시뮬레이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696000" cy="1674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84360" y="3645000"/>
            <a:ext cx="4321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소망M"/>
                <a:ea typeface="소망M"/>
              </a:rPr>
              <a:t>Roll = z </a:t>
            </a:r>
            <a:r>
              <a:rPr b="0" lang="zh-CN" sz="1600" spc="-1" strike="noStrike">
                <a:solidFill>
                  <a:srgbClr val="333399"/>
                </a:solidFill>
                <a:latin typeface="소망M"/>
                <a:ea typeface="소망M"/>
              </a:rPr>
              <a:t>축 기준 회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743040" indent="-2858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소망M"/>
                <a:ea typeface="소망M"/>
              </a:rPr>
              <a:t>Pitch = x </a:t>
            </a:r>
            <a:r>
              <a:rPr b="0" lang="zh-CN" sz="1600" spc="-1" strike="noStrike">
                <a:solidFill>
                  <a:srgbClr val="333399"/>
                </a:solidFill>
                <a:latin typeface="소망M"/>
                <a:ea typeface="소망M"/>
              </a:rPr>
              <a:t>축 기준 회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743040" indent="-28584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소망M"/>
                <a:ea typeface="소망M"/>
              </a:rPr>
              <a:t>Yaw = y </a:t>
            </a:r>
            <a:r>
              <a:rPr b="0" lang="zh-CN" sz="1600" spc="-1" strike="noStrike">
                <a:solidFill>
                  <a:srgbClr val="333399"/>
                </a:solidFill>
                <a:latin typeface="소망M"/>
                <a:ea typeface="소망M"/>
              </a:rPr>
              <a:t>축 기준 회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5300640"/>
            <a:ext cx="8353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소망M"/>
                <a:ea typeface="소망M"/>
              </a:rPr>
              <a:t>각도 변화에 따라서 새로운 축을 </a:t>
            </a:r>
            <a:r>
              <a:rPr b="0" lang="en-US" sz="1600" spc="-1" strike="noStrike">
                <a:solidFill>
                  <a:srgbClr val="000000"/>
                </a:solidFill>
                <a:latin typeface="소망M"/>
                <a:ea typeface="소망M"/>
              </a:rPr>
              <a:t>x, y, z</a:t>
            </a:r>
            <a:r>
              <a:rPr b="0" lang="zh-CN" sz="1600" spc="-1" strike="noStrike">
                <a:solidFill>
                  <a:srgbClr val="000000"/>
                </a:solidFill>
                <a:latin typeface="소망M"/>
                <a:ea typeface="소망M"/>
              </a:rPr>
              <a:t>축으로 하는 시점 좌표계가 형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743040" indent="-285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소망M"/>
                <a:ea typeface="소망M"/>
              </a:rPr>
              <a:t>조종사의 눈에 보이는 모든 물체는 변화된 새로운 시점 좌표계를 기준으로 변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9B1C-9A51-45D0-84EB-26D5BB7EAB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시점 좌표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uLookAt(GLdouble eyex, GLdouble eyey, GLdouble eyez, GLdouble atx, GLdouble aty, GLdouble atz, GLdouble upx, GLdouble upy, GLdouble upz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라미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 위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가 바라보는 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즉 초점의 위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 기울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rienta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76360" y="1125360"/>
            <a:ext cx="5472000" cy="21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E4F7-C44F-4981-9CDC-B8952152A1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시점 좌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전역 좌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모델 좌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Verdana"/>
              </a:rPr>
              <a:t>W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= M</a:t>
            </a:r>
            <a:r>
              <a:rPr b="0" lang="ko-KR" sz="16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Verdana"/>
              </a:rPr>
              <a:t>M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Verdana"/>
              </a:rPr>
              <a:t>V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ko-KR" sz="16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Verdana"/>
              </a:rPr>
              <a:t>W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= V</a:t>
            </a:r>
            <a:r>
              <a:rPr b="0" lang="ko-KR" sz="16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ko-KR" sz="16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Verdana"/>
              </a:rPr>
              <a:t>M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시점변환 함수의 위치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MatrixMode(GL_MODELVIEW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LoadIdentity( );                                                                I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gluLookAt(0.2 0.0, 0.0,  0.0, 0.0, -100.0,  1.0, 1.0, .0);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     V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Rotatef (45, 0.0, 1.0, 0.0);                                                M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utWireCube(1.0);                                                          P</a:t>
            </a:r>
            <a:r>
              <a:rPr b="0" lang="ko-KR" sz="1600" spc="-1" strike="noStrike" baseline="-25000">
                <a:solidFill>
                  <a:srgbClr val="000000"/>
                </a:solidFill>
                <a:latin typeface="Verdana"/>
              </a:rPr>
              <a:t>M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124000" y="981000"/>
            <a:ext cx="4824360" cy="13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B0B4-DAB5-49D1-9752-3712E73C1D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틸트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팬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롤링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돌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돌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4032360" cy="1505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979640" y="3284640"/>
            <a:ext cx="4321080" cy="1514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79640" y="4869000"/>
            <a:ext cx="4321080" cy="152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E7F2-FC2E-4764-AC0D-4708008084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변환행렬의 의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이동변환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기본값으로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WCS=M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일반적 관점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변환행렬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는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WCS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기준으로 물체 정점을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(3, 2, 0)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만큼 이동함을 의미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지엘의 관점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변환과 동시에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W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C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가 분리됨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변환 후에도 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MCS 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기준의 정점 좌표는 불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좌표계의 이동으로 간주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전역 좌표계를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(3, 2, 0)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만큼 이동하면 모델 좌표계와 일치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전역 좌표계를 모델 좌표계로 일치시키기 위한 것이 변환행렬이다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608720" cy="1732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672000" cy="14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62B3-F8B5-465C-AA2B-98229D1A35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변환행렬의 의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와 함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MCS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도 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MC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준의 물체 좌표는 불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변환 행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WCS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5(b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MCS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로 일치시키는데 사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후 이를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MC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준으로 물체를 렌더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크기조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x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으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MCS x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 눈금의 절대 길이가 바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MC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준의 물체 좌표는 불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Ex. (2, 2, 0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08000" y="1197000"/>
            <a:ext cx="511200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6A62-EDDA-4DD9-965C-FF2F6B339B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엘 파이프라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에 가해지는 기하변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동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행렬로 대변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 좌표에 모델 행렬을 곱하면 전역좌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변환 또는 뷰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카메라 위치와 방향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뷰행렬로 대변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좌표에 뷰행렬을 곱하면 시점좌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은 모델행렬과 뷰행렬을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모델뷰 행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하나로 취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를 뒤로 빼나 카메라를 앞으로 미나 마찬가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340000" y="907920"/>
            <a:ext cx="4103640" cy="26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8D7D-5220-4EEF-94BB-05DEE03EB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모델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행렬모드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작하고자하는 행렬을 선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MatrixMode(GLenum mode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_MODELVIEW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GL_PROJECTION, GL_TEX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현 변환행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TM: Current Transformation Matri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택 탑에 존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항상 이것이 정점에 곱해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700360" y="3789360"/>
            <a:ext cx="504036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AD9A-9C5A-4AB9-887A-9DB3F6560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모델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초기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LoadIdentity(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항등행렬로 초기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초기화 결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 좌표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 좌표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점 좌표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하변환을 명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Translatef(GLfloat dx, GLfloat dy, GLfloat dz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Scalef(GLfloat sx, GLfloat sy, GLfloat sz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oid glRotatef(GLfloat angle, GLfloat x, GLfloat y, GLfloat z);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후위곱셈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PostMultiplic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 좌표계를 기준으로 하는 모델 좌표계의 변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TM = CTM 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glTranslatef(1, 2, 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284720" y="692280"/>
            <a:ext cx="2751120" cy="127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284720" y="1700280"/>
            <a:ext cx="346716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4284720" y="4869000"/>
            <a:ext cx="424800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2E3E-B607-4634-B84D-00A72F986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복합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MatrixMode(GL_MODELVIEW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LoadIdentity( );     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Scalef(sx, sy, sz);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Rotatef(theta, vx, vy, vz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Begin(GL_POINTS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Vertex3f(px, py, pz);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End( 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크기조절 이후 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?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 이후 크기조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66247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A7B-2B4A-4745-BF69-39744AB725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물체 변환에 의한 모델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코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MatrixMode(GL_MODELVIEW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LoadIdentity( );     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Rotatef(45, 0.0, 0.0, 1.0);  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물체 변환의 역순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lTranslatef(10.0, 0.0, 0.0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Vertex3f(Px, Py, Pz);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역좌표 기준의 물체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' = T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'' = R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' =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R</a:t>
            </a:r>
            <a:r>
              <a:rPr b="0" lang="ko-KR" sz="1800" spc="-1" strike="noStrike">
                <a:solidFill>
                  <a:srgbClr val="ff33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Palatino Linotype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4802400" cy="31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EC44-562D-4F26-A709-32422D375B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10-31T05:45:39Z</dcterms:modified>
  <cp:revision>457</cp:revision>
  <dc:subject/>
  <dc:title>PowerPoint 프레젠테이션</dc:title>
</cp:coreProperties>
</file>